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7067-1ACC-4DBA-A3D5-9812DA6B9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9A7C-8990-4984-AD32-A45BEC99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0A9A-D0DD-4B75-BE5E-D2B946FD3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9C19-0968-467E-8076-42D39B5CA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D9AB-CABD-44D8-9503-36F1AE0C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AD3A-6C24-42A9-A61B-F0B6408A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4AAB-F967-463E-8262-1C7001FB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5483-491F-48D0-A54C-44D525FE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5AFB-1D90-448B-8277-F2A428AF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6840" y="27792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892A-3861-4FB0-BE7E-AE5BB09F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D7D3-13C0-4C85-8481-9570CC79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9AFE-8FCC-47A9-90A1-2AF021E1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D090-BB69-4B38-93D9-4772B0F5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626B-ECCC-486E-8F2D-93863D08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4A65-DFB7-42B2-9539-F7554EA8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9303-4952-4B33-A84B-BB0CF3600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2525-188D-42DE-B7E0-ECFF4A9EA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B72E-E877-404B-B6D2-6729FD9F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95D0-4B7D-4EA3-91BA-C435D9F5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9636-8F94-4AA4-86C2-6783E352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6840" y="27792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2294-4BE8-49D9-BE93-C3A66225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81E7-E61E-402D-875B-E68B0239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2AD5-1B40-4E11-86BF-CC79009F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F800-DB7E-4F62-97D2-A51ECDB0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931080"/>
            <a:chOff x="0" y="0"/>
            <a:chExt cx="9140760" cy="693108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89520" cy="312408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49800" cy="254304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19760" cy="14936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1520" cy="189360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6640" cy="359424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5720" cy="23907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2400" cy="127620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6360" cy="16668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48280" cy="11793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0760" cy="4539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0760" cy="53028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0760" cy="4539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57640" cy="320976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0200" cy="28335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6320" cy="37530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29000" cy="30672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72EE0A-0BBD-49B1-8DC2-C1E1C0E6C33A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0760" cy="6931080"/>
            <a:chOff x="0" y="0"/>
            <a:chExt cx="9140760" cy="693108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89520" cy="312408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49800" cy="254304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19760" cy="14936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1520" cy="189360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6640" cy="359424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5720" cy="23907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2400" cy="127620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6360" cy="16668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48280" cy="11793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0760" cy="4539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0760" cy="53028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0760" cy="4539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57640" cy="320976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0200" cy="28335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6320" cy="37530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29000" cy="30672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9160" cy="17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2EEFCA4-6AE7-4515-82DE-A463C9362809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5400" spc="-1" strike="noStrike">
                <a:solidFill>
                  <a:srgbClr val="feec94"/>
                </a:solidFill>
                <a:latin typeface="Times New Roman"/>
              </a:rPr>
              <a:t>EL TEXTO NARRATIVO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Ámbito cotidia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Ámbito liter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Ámbito periodíst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5400" spc="-1" strike="noStrike">
                <a:solidFill>
                  <a:srgbClr val="feec94"/>
                </a:solidFill>
                <a:latin typeface="Times New Roman"/>
              </a:rPr>
              <a:t>Narraciones del ámbito literario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cuento y la nove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Comic Sans MS"/>
              </a:rPr>
              <a:t>El cuento y la novela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Características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24000" y="1700280"/>
          <a:ext cx="8461080" cy="4763880"/>
        </p:xfrm>
        <a:graphic>
          <a:graphicData uri="http://schemas.openxmlformats.org/drawingml/2006/table">
            <a:tbl>
              <a:tblPr/>
              <a:tblGrid>
                <a:gridCol w="4065480"/>
                <a:gridCol w="4395600"/>
              </a:tblGrid>
              <a:tr h="590400"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 cuent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 novel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40608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Breveda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Extensió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40608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 Hechos relevantes preciso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Descripciones y diálogos abundante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122904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Todo gira alrededor de los hechos o acciones de los personajes, lo que deriva en una mayor intensidad narrativa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Profundiza y desarrolla la trama narrativa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95472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Se muestra una parte  de la realidad: una secuencia concreta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Se crea un pequeño microcosmos donde los personajes reaccionan ante  distintas situacione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117756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Los personajes se dibujan con pequeñas pinceladas sin profundizar en su psicología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Los personajes poseen una mayor profundidad psicológica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Comic Sans MS"/>
              </a:rPr>
              <a:t>El cuento y la novela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Estructura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5640" y="2565360"/>
            <a:ext cx="1944720" cy="576360"/>
          </a:xfrm>
          <a:prstGeom prst="rect">
            <a:avLst/>
          </a:prstGeom>
          <a:solidFill>
            <a:srgbClr val="00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Situación ini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92360" y="2565360"/>
            <a:ext cx="2016360" cy="576360"/>
          </a:xfrm>
          <a:prstGeom prst="rect">
            <a:avLst/>
          </a:prstGeom>
          <a:solidFill>
            <a:srgbClr val="00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Desarrollo 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nu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227640" y="2565360"/>
            <a:ext cx="2089440" cy="576360"/>
          </a:xfrm>
          <a:prstGeom prst="rect">
            <a:avLst/>
          </a:prstGeom>
          <a:solidFill>
            <a:srgbClr val="00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Desen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92360" y="3141720"/>
            <a:ext cx="1440" cy="431640"/>
          </a:xfrm>
          <a:prstGeom prst="line">
            <a:avLst/>
          </a:prstGeom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3141720"/>
            <a:ext cx="1440" cy="431640"/>
          </a:xfrm>
          <a:prstGeom prst="line">
            <a:avLst/>
          </a:prstGeom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64360" y="3141720"/>
            <a:ext cx="1440" cy="431640"/>
          </a:xfrm>
          <a:prstGeom prst="line">
            <a:avLst/>
          </a:prstGeom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00360" y="2852640"/>
            <a:ext cx="792000" cy="1800"/>
          </a:xfrm>
          <a:prstGeom prst="line">
            <a:avLst/>
          </a:prstGeom>
          <a:ln cap="sq"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08720" y="2852640"/>
            <a:ext cx="718920" cy="1800"/>
          </a:xfrm>
          <a:prstGeom prst="line">
            <a:avLst/>
          </a:prstGeom>
          <a:ln cap="sq"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3573360"/>
            <a:ext cx="2057400" cy="1828800"/>
          </a:xfrm>
          <a:prstGeom prst="rect">
            <a:avLst/>
          </a:prstGeom>
          <a:solidFill>
            <a:srgbClr val="00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Recoge el conjunto de acciones deriva-das de la situación planteada. Es la parte  de mayor complej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4360" y="3573360"/>
            <a:ext cx="2057400" cy="1800360"/>
          </a:xfrm>
          <a:prstGeom prst="rect">
            <a:avLst/>
          </a:prstGeom>
          <a:solidFill>
            <a:srgbClr val="00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unto de partida en el que se presentan los personajes,  en un tiempo y espacio concre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3573360"/>
            <a:ext cx="2171520" cy="1800360"/>
          </a:xfrm>
          <a:prstGeom prst="rect">
            <a:avLst/>
          </a:prstGeom>
          <a:solidFill>
            <a:srgbClr val="00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s el final de la histori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 ella se muestra la situación final en que derivan los hech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Comic Sans MS"/>
              </a:rPr>
              <a:t>El cuento y la novela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Clasificación de los personajes</a:t>
            </a: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1600200"/>
          <a:ext cx="8231040" cy="4799160"/>
        </p:xfrm>
        <a:graphic>
          <a:graphicData uri="http://schemas.openxmlformats.org/drawingml/2006/table">
            <a:tbl>
              <a:tblPr/>
              <a:tblGrid>
                <a:gridCol w="2743200"/>
                <a:gridCol w="2744640"/>
                <a:gridCol w="2743200"/>
              </a:tblGrid>
              <a:tr h="43488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gún la personalid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gún la particip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gún su psicologí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436428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25"/>
                        </a:spcBef>
                        <a:buClr>
                          <a:srgbClr val="ffffcc"/>
                        </a:buClr>
                        <a:buFont typeface="Wingdings" charset="2"/>
                        <a:buChar char=""/>
                        <a:tabLst>
                          <a:tab algn="l" pos="181080"/>
                          <a:tab algn="l" pos="977760"/>
                          <a:tab algn="l" pos="1427040"/>
                          <a:tab algn="l" pos="1876320"/>
                          <a:tab algn="l" pos="2325600"/>
                          <a:tab algn="l" pos="2774880"/>
                          <a:tab algn="l" pos="3224160"/>
                          <a:tab algn="l" pos="3673440"/>
                          <a:tab algn="l" pos="4122720"/>
                          <a:tab algn="l" pos="4572000"/>
                          <a:tab algn="l" pos="5021280"/>
                          <a:tab algn="l" pos="5470560"/>
                          <a:tab algn="l" pos="5919840"/>
                          <a:tab algn="l" pos="6369120"/>
                          <a:tab algn="l" pos="6818400"/>
                          <a:tab algn="l" pos="7267680"/>
                          <a:tab algn="l" pos="7716960"/>
                          <a:tab algn="l" pos="8166240"/>
                          <a:tab algn="l" pos="8615520"/>
                          <a:tab algn="l" pos="9064800"/>
                          <a:tab algn="l" pos="95137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Tipos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sonajes superficiales que muestran los rasgos propios del grupo social al que per-tenecen: </a:t>
                      </a: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 gracio-so, el vago, el avaro,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25"/>
                        </a:spcBef>
                        <a:buClr>
                          <a:srgbClr val="ffffcc"/>
                        </a:buClr>
                        <a:buFont typeface="Wingdings" charset="2"/>
                        <a:buChar char=""/>
                        <a:tabLst>
                          <a:tab algn="l" pos="181080"/>
                          <a:tab algn="l" pos="977760"/>
                          <a:tab algn="l" pos="1427040"/>
                          <a:tab algn="l" pos="1876320"/>
                          <a:tab algn="l" pos="2325600"/>
                          <a:tab algn="l" pos="2774880"/>
                          <a:tab algn="l" pos="3224160"/>
                          <a:tab algn="l" pos="3673440"/>
                          <a:tab algn="l" pos="4122720"/>
                          <a:tab algn="l" pos="4572000"/>
                          <a:tab algn="l" pos="5021280"/>
                          <a:tab algn="l" pos="5470560"/>
                          <a:tab algn="l" pos="5919840"/>
                          <a:tab algn="l" pos="6369120"/>
                          <a:tab algn="l" pos="6818400"/>
                          <a:tab algn="l" pos="7267680"/>
                          <a:tab algn="l" pos="7716960"/>
                          <a:tab algn="l" pos="8166240"/>
                          <a:tab algn="l" pos="8615520"/>
                          <a:tab algn="l" pos="9064800"/>
                          <a:tab algn="l" pos="95137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ndividuos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een una mayor carga psicológica y se comportan de ma-nera poco previ-sible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marL="530280" indent="-530280" algn="just">
                        <a:lnSpc>
                          <a:spcPct val="9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530280"/>
                          <a:tab algn="l" pos="977760"/>
                          <a:tab algn="l" pos="1427040"/>
                          <a:tab algn="l" pos="1876320"/>
                          <a:tab algn="l" pos="2325600"/>
                          <a:tab algn="l" pos="2774880"/>
                          <a:tab algn="l" pos="3224160"/>
                          <a:tab algn="l" pos="3673440"/>
                          <a:tab algn="l" pos="4122720"/>
                          <a:tab algn="l" pos="4572000"/>
                          <a:tab algn="l" pos="5021280"/>
                          <a:tab algn="l" pos="5470560"/>
                          <a:tab algn="l" pos="5919840"/>
                          <a:tab algn="l" pos="6369120"/>
                          <a:tab algn="l" pos="6818400"/>
                          <a:tab algn="l" pos="7267680"/>
                          <a:tab algn="l" pos="7716960"/>
                          <a:tab algn="l" pos="8166240"/>
                          <a:tab algn="l" pos="8615520"/>
                          <a:tab algn="l" pos="9064800"/>
                          <a:tab algn="l" pos="95137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Principales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n aquellos que tienen una mayor parti-cipación en la his-toria y ocupan más espacio narrativo. Pueden ser </a:t>
                      </a:r>
                      <a:r>
                        <a:rPr b="0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prota-gonistas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o </a:t>
                      </a:r>
                      <a:r>
                        <a:rPr b="0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nta-gonistas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0280" indent="-530280" algn="just">
                        <a:lnSpc>
                          <a:spcPct val="9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530280"/>
                          <a:tab algn="l" pos="977760"/>
                          <a:tab algn="l" pos="1427040"/>
                          <a:tab algn="l" pos="1876320"/>
                          <a:tab algn="l" pos="2325600"/>
                          <a:tab algn="l" pos="2774880"/>
                          <a:tab algn="l" pos="3224160"/>
                          <a:tab algn="l" pos="3673440"/>
                          <a:tab algn="l" pos="4122720"/>
                          <a:tab algn="l" pos="4572000"/>
                          <a:tab algn="l" pos="5021280"/>
                          <a:tab algn="l" pos="5470560"/>
                          <a:tab algn="l" pos="5919840"/>
                          <a:tab algn="l" pos="6369120"/>
                          <a:tab algn="l" pos="6818400"/>
                          <a:tab algn="l" pos="7267680"/>
                          <a:tab algn="l" pos="7716960"/>
                          <a:tab algn="l" pos="8166240"/>
                          <a:tab algn="l" pos="8615520"/>
                          <a:tab algn="l" pos="9064800"/>
                          <a:tab algn="l" pos="95137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Secundarios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-nen un papel me-nos relevante y ocupan menos es-pacio narrativo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marL="530280" indent="-530280" algn="just">
                        <a:lnSpc>
                          <a:spcPct val="9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530280"/>
                          <a:tab algn="l" pos="977760"/>
                          <a:tab algn="l" pos="1427040"/>
                          <a:tab algn="l" pos="1876320"/>
                          <a:tab algn="l" pos="2325600"/>
                          <a:tab algn="l" pos="2774880"/>
                          <a:tab algn="l" pos="3224160"/>
                          <a:tab algn="l" pos="3673440"/>
                          <a:tab algn="l" pos="4122720"/>
                          <a:tab algn="l" pos="4572000"/>
                          <a:tab algn="l" pos="5021280"/>
                          <a:tab algn="l" pos="5470560"/>
                          <a:tab algn="l" pos="5919840"/>
                          <a:tab algn="l" pos="6369120"/>
                          <a:tab algn="l" pos="6818400"/>
                          <a:tab algn="l" pos="7267680"/>
                          <a:tab algn="l" pos="7716960"/>
                          <a:tab algn="l" pos="8166240"/>
                          <a:tab algn="l" pos="8615520"/>
                          <a:tab algn="l" pos="9064800"/>
                          <a:tab algn="l" pos="95137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Planos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nen una caracterización muy sencilla y es propia de los personajes </a:t>
                      </a: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0280" indent="-530280" algn="just">
                        <a:lnSpc>
                          <a:spcPct val="9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530280"/>
                          <a:tab algn="l" pos="977760"/>
                          <a:tab algn="l" pos="1427040"/>
                          <a:tab algn="l" pos="1876320"/>
                          <a:tab algn="l" pos="2325600"/>
                          <a:tab algn="l" pos="2774880"/>
                          <a:tab algn="l" pos="3224160"/>
                          <a:tab algn="l" pos="3673440"/>
                          <a:tab algn="l" pos="4122720"/>
                          <a:tab algn="l" pos="4572000"/>
                          <a:tab algn="l" pos="5021280"/>
                          <a:tab algn="l" pos="5470560"/>
                          <a:tab algn="l" pos="5919840"/>
                          <a:tab algn="l" pos="6369120"/>
                          <a:tab algn="l" pos="6818400"/>
                          <a:tab algn="l" pos="7267680"/>
                          <a:tab algn="l" pos="7716960"/>
                          <a:tab algn="l" pos="8166240"/>
                          <a:tab algn="l" pos="8615520"/>
                          <a:tab algn="l" pos="9064800"/>
                          <a:tab algn="l" pos="95137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Redondos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nen una caracterización más compleja: ex-perimentan, reac-cionan, cambian y evolucionan a lo largo de toda la trama como  </a:t>
                      </a: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-dividuos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0280" indent="-530280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530280"/>
                          <a:tab algn="l" pos="977760"/>
                          <a:tab algn="l" pos="1427040"/>
                          <a:tab algn="l" pos="1876320"/>
                          <a:tab algn="l" pos="2325600"/>
                          <a:tab algn="l" pos="2774880"/>
                          <a:tab algn="l" pos="3224160"/>
                          <a:tab algn="l" pos="3673440"/>
                          <a:tab algn="l" pos="4122720"/>
                          <a:tab algn="l" pos="4572000"/>
                          <a:tab algn="l" pos="5021280"/>
                          <a:tab algn="l" pos="5470560"/>
                          <a:tab algn="l" pos="5919840"/>
                          <a:tab algn="l" pos="6369120"/>
                          <a:tab algn="l" pos="6818400"/>
                          <a:tab algn="l" pos="7267680"/>
                          <a:tab algn="l" pos="7716960"/>
                          <a:tab algn="l" pos="8166240"/>
                          <a:tab algn="l" pos="8615520"/>
                          <a:tab algn="l" pos="9064800"/>
                          <a:tab algn="l" pos="95137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Comic Sans MS"/>
              </a:rPr>
              <a:t>El cuento y la novela 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La voz de los personajes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1600200"/>
          <a:ext cx="8231040" cy="4997520"/>
        </p:xfrm>
        <a:graphic>
          <a:graphicData uri="http://schemas.openxmlformats.org/drawingml/2006/table">
            <a:tbl>
              <a:tblPr/>
              <a:tblGrid>
                <a:gridCol w="2743200"/>
                <a:gridCol w="2744640"/>
                <a:gridCol w="2743200"/>
              </a:tblGrid>
              <a:tr h="48420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ilo indirec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ilo direc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ólog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451332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rve para reproducir textualmente las pala-bras de un personaje (</a:t>
                      </a:r>
                      <a:r>
                        <a:rPr b="1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an pensó: “aquí no aguanto yo dos días”)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 construye mediante la yuxtaposición de dos segmentos: la intro-ducción de las palabras del personajes con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-bos de dicción: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an </a:t>
                      </a:r>
                      <a:r>
                        <a:rPr b="0" i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pensó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y las palabras propiamente dichas: </a:t>
                      </a: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quí no aguanto yo dos días.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este caso se trasladan las palabras de alguien a través de la voz del narrador: </a:t>
                      </a:r>
                      <a:r>
                        <a:rPr b="1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an pensó que allí no aguantaba él dos días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s palabras se intro-ducen por una conjun-ción (“que”, “si”, “cuán-do”…) y sufren cambios las formas pronominales, los deícticos de tiempo y espacio, y el tiempo ver-bal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 una variante en la que un personaje habla con-sigo mismo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a forma deja entrever el interior del personaje, sus sentimientos, sus emociones… Aunque lo normal es el uso de la primera persona, tam-bién se utiliza la segunda “tú” cuando se desdobla y habla consigo mismo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Comic Sans MS"/>
              </a:rPr>
              <a:t>El cuento y la novela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El espacio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57200" y="1600200"/>
          <a:ext cx="8231040" cy="4351320"/>
        </p:xfrm>
        <a:graphic>
          <a:graphicData uri="http://schemas.openxmlformats.org/drawingml/2006/table">
            <a:tbl>
              <a:tblPr/>
              <a:tblGrid>
                <a:gridCol w="2743200"/>
                <a:gridCol w="2744640"/>
                <a:gridCol w="2743200"/>
              </a:tblGrid>
              <a:tr h="48564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ís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sicológ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c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386568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biertos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son aquellos espacios exteriores, de afuera, que son muy grandes o amplios para el desarrollo de los hechos y que dan libertad a los personaje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Cerrados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son los espacios reducidos y pequeños, que limitan y estorban las acciones de los personaje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 el </a:t>
                      </a: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mbiente espi-ritual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que rodea al en-torno y, además, influye en las formas de actuar que tengan los perso-naje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e espacio es el que cada personaje tiene en su interior, en directa relación con sus senti-mientos, sean de alegría, angustia, frustración u otro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 el </a:t>
                      </a: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espacio cultural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Ideas ético-morales, pen-samientos religiosos y políticos, nivel social y económico, entre otros factores que rodean los hechos ejecutados por los personajes, es decir, es el ambiente socio-cultural en que actúan 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Comic Sans MS"/>
              </a:rPr>
              <a:t>El cuento y la novela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El tiempo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11280" y="2133720"/>
          <a:ext cx="8231040" cy="3311280"/>
        </p:xfrm>
        <a:graphic>
          <a:graphicData uri="http://schemas.openxmlformats.org/drawingml/2006/table">
            <a:tbl>
              <a:tblPr/>
              <a:tblGrid>
                <a:gridCol w="4116240"/>
                <a:gridCol w="4114800"/>
              </a:tblGrid>
              <a:tr h="820440"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terno o históric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n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249084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 la época o momento histórico en que se sitúa la narración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ede presentarse con datos concretos o deducirse del ambiente, personajes, costumbres… etc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 el tiempo ficticio que duran los acontecimientos narrados en la historia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ede abarcar toda una vida o ceñirse a varios días. El autor selecciona los hechos que juzga interesantes y omite (con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ipsis o saltos temporales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aquellos que considera innecesario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feec94"/>
                </a:solidFill>
                <a:latin typeface="Comic Sans MS"/>
              </a:rPr>
              <a:t>El cuento y la novela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El narrador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50920" y="1413000"/>
          <a:ext cx="8449920" cy="5384160"/>
        </p:xfrm>
        <a:graphic>
          <a:graphicData uri="http://schemas.openxmlformats.org/drawingml/2006/table">
            <a:tbl>
              <a:tblPr/>
              <a:tblGrid>
                <a:gridCol w="2816640"/>
                <a:gridCol w="2400840"/>
                <a:gridCol w="3232440"/>
              </a:tblGrid>
              <a:tr h="642960">
                <a:tc>
                  <a:txBody>
                    <a:bodyPr lIns="90000" rIns="90000" tIns="810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DE LA 1 ª PERSONA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DE LA 2 ª PERSONA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DE LA 3 ª PERSONA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4741200">
                <a:tc>
                  <a:txBody>
                    <a:bodyPr lIns="90000" rIns="90000" tIns="84600" bIns="46800" anchor="t">
                      <a:noAutofit/>
                    </a:bodyPr>
                    <a:p>
                      <a:pPr marL="88920" algn="just"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575"/>
                        </a:spcAft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"/>
                        <a:tabLst>
                          <a:tab algn="l" pos="88920"/>
                          <a:tab algn="l" pos="536400"/>
                          <a:tab algn="l" pos="985680"/>
                          <a:tab algn="l" pos="1434960"/>
                          <a:tab algn="l" pos="1884240"/>
                          <a:tab algn="l" pos="2333520"/>
                          <a:tab algn="l" pos="2782800"/>
                          <a:tab algn="l" pos="3232080"/>
                          <a:tab algn="l" pos="3681360"/>
                          <a:tab algn="l" pos="4130640"/>
                          <a:tab algn="l" pos="4579920"/>
                          <a:tab algn="l" pos="5029200"/>
                          <a:tab algn="l" pos="5478480"/>
                          <a:tab algn="l" pos="5927760"/>
                          <a:tab algn="l" pos="6377040"/>
                          <a:tab algn="l" pos="6826320"/>
                          <a:tab algn="l" pos="7275600"/>
                          <a:tab algn="l" pos="7724880"/>
                          <a:tab algn="l" pos="8174160"/>
                          <a:tab algn="l" pos="8623440"/>
                          <a:tab algn="l" pos="90727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Narrador protagonista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e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 narrador es también el personaje principal: biografía o autobio-grafía novelada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 algn="just"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575"/>
                        </a:spcAft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"/>
                        <a:tabLst>
                          <a:tab algn="l" pos="88920"/>
                          <a:tab algn="l" pos="536400"/>
                          <a:tab algn="l" pos="985680"/>
                          <a:tab algn="l" pos="1434960"/>
                          <a:tab algn="l" pos="1884240"/>
                          <a:tab algn="l" pos="2333520"/>
                          <a:tab algn="l" pos="2782800"/>
                          <a:tab algn="l" pos="3232080"/>
                          <a:tab algn="l" pos="3681360"/>
                          <a:tab algn="l" pos="4130640"/>
                          <a:tab algn="l" pos="4579920"/>
                          <a:tab algn="l" pos="5029200"/>
                          <a:tab algn="l" pos="5478480"/>
                          <a:tab algn="l" pos="5927760"/>
                          <a:tab algn="l" pos="6377040"/>
                          <a:tab algn="l" pos="6826320"/>
                          <a:tab algn="l" pos="7275600"/>
                          <a:tab algn="l" pos="7724880"/>
                          <a:tab algn="l" pos="8174160"/>
                          <a:tab algn="l" pos="8623440"/>
                          <a:tab algn="l" pos="90727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Narrador personaje se-cundario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el narrador es un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igo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 pre-sencia los hechos narrados. A veces, los testigos son varios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Desdoblamiento del yo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El narrador crea el efecto de estar contándose la his-toria a sí mismo o a un </a:t>
                      </a: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desdoblado. Forma parte de la historia como prota-gonista o testigo. Aunque  aparezca la segunda persona gramatical </a:t>
                      </a: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ú,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se dirige al lec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Aft>
                          <a:spcPts val="575"/>
                        </a:spcAft>
                        <a:buClr>
                          <a:srgbClr val="ffffcc"/>
                        </a:buClr>
                        <a:buSzPct val="45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Narrador omnisciente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que todo lo sabe. Aquel cuyo conocimiento de los hechos es total y absoluto. Sabe lo que piensan y sienten los personajes; a veces opina sobre ellos, pero no participa de los hecho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Aft>
                          <a:spcPts val="575"/>
                        </a:spcAft>
                        <a:buClr>
                          <a:srgbClr val="ffffcc"/>
                        </a:buClr>
                        <a:buSzPct val="45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Narrador observador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que sólo cuenta lo que puede observar. De modo parecido a una cámara de cine, el na-rrador muestra lo que ve. No participa de los hechos, ni opina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feec94"/>
                </a:solidFill>
                <a:latin typeface="Times New Roman"/>
              </a:rPr>
              <a:t>El cuento y la novela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Times New Roman"/>
              </a:rPr>
              <a:t>Orden de la acción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600200"/>
          <a:ext cx="8230680" cy="4790880"/>
        </p:xfrm>
        <a:graphic>
          <a:graphicData uri="http://schemas.openxmlformats.org/drawingml/2006/table">
            <a:tbl>
              <a:tblPr/>
              <a:tblGrid>
                <a:gridCol w="2743560"/>
                <a:gridCol w="2743560"/>
                <a:gridCol w="2743560"/>
              </a:tblGrid>
              <a:tr h="40608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l o cronológ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dia 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tura tempor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438480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 orden de los aconte-cimientos sigue una </a:t>
                      </a: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lí-nea temporal ordenada cronológicamente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Los distintos acontecimien-tos se van sucediendo uno tras otro sin saltos en el tiempo, lo que permite un fácil segui-miento de la historia por parte del receptor. Es la forma utilizada en los cuentos populares.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resión latina  que significa “</a:t>
                      </a: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en medio del asunto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”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el relato em-pieza en medio de la historia, a veces también desde el final, sin previa aclaración de la historia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 trata de un comienzo abrupto empleado para captar la atención del lector.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br>
                        <a:rPr sz="1800"/>
                      </a:br>
                      <a:br>
                        <a:rPr sz="3200"/>
                      </a:b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ash-back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trospec-ción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: el narrador trasla-da la acción al pasad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icipación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el narra-dor anticipa acciones, se adelanta en el tiemp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apunto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varias historias se entrecruzan a lo largo de la narra-ción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lar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el texto co- mienza y acaba del mismo modo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5400" spc="-1" strike="noStrike">
                <a:solidFill>
                  <a:srgbClr val="feec94"/>
                </a:solidFill>
                <a:latin typeface="Times New Roman"/>
              </a:rPr>
              <a:t>Narraciones del ámbito periodístico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 noticia y la crón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feec94"/>
                </a:solidFill>
                <a:latin typeface="Comic Sans MS"/>
              </a:rPr>
              <a:t>¿Qué es una narración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428240" cy="398916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narración es una de las formas textuales más importantes por el hecho de estar presente en nuestra vida cotidiana: desde el relato de una simple anécdota a un amigo, pasando por escribir en un diario lo que hemos hecho a lo largo del día, hasta la lectura de una  noticia en un periódico. De  esta forma se convierte en la forma textual más utilizada, porque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lo habitual en nuestra vida diaria es contar algo.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feec94"/>
                </a:solidFill>
                <a:latin typeface="Comic Sans MS"/>
              </a:rPr>
              <a:t>La notici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68360" y="1989000"/>
          <a:ext cx="8219880" cy="3133800"/>
        </p:xfrm>
        <a:graphic>
          <a:graphicData uri="http://schemas.openxmlformats.org/drawingml/2006/table">
            <a:tbl>
              <a:tblPr/>
              <a:tblGrid>
                <a:gridCol w="2879640"/>
                <a:gridCol w="2448000"/>
                <a:gridCol w="2892240"/>
              </a:tblGrid>
              <a:tr h="1038240"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acterística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ructur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209556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ceso de actualidad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ontecimiento rele-vante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 interés del público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 divulgativo.</a:t>
                      </a: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Qué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A quién o quiénes?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Dónde?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Cuándo?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Por qué?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Pirámide inverti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 los datos más relevan-tes a los  menos impor-tante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feec94"/>
                </a:solidFill>
                <a:latin typeface="Comic Sans MS"/>
              </a:rPr>
              <a:t>La crónic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68360" y="2133720"/>
          <a:ext cx="8231040" cy="3381120"/>
        </p:xfrm>
        <a:graphic>
          <a:graphicData uri="http://schemas.openxmlformats.org/drawingml/2006/table">
            <a:tbl>
              <a:tblPr/>
              <a:tblGrid>
                <a:gridCol w="3456000"/>
                <a:gridCol w="4775040"/>
              </a:tblGrid>
              <a:tr h="790560"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acterística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ructur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259056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icia ampliada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 periodista es testigo de los hechos y los valora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imonios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ción objetiva: noticia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ción subjetiva: comentario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Comic Sans MS"/>
              </a:rPr>
              <a:t>La narración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Características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La verosimilitud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: consiste en hacer parecer unos hechos como ciertos aunque no lo sean; por ello, es aconsejable partir de hechos conocidos o vividos directament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El punto de vista narrativo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: para que una narración resulte atractiva y logre despertar la curiosidad de los receptores, es fundamental lo que se cuenta, pero, sobre todo, cómo se cuenta. Todo va a depender de cómo se nos presenten los hechos, los personajes que intervienen, el ambiente,…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feec94"/>
                </a:solidFill>
                <a:latin typeface="Comic Sans MS"/>
              </a:rPr>
              <a:t>Elementos de la narra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Un narrador o narrado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Unos hechos o ac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Unos personajes o personas concretas (si se trata del relato de una historia real, como una anécdota o una biografí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Uno o varios espaci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Un periodo de tiemp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5400" spc="-1" strike="noStrike">
                <a:solidFill>
                  <a:srgbClr val="feec94"/>
                </a:solidFill>
                <a:latin typeface="Times New Roman"/>
              </a:rPr>
              <a:t>Narraciones del ámbito cotidiano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 anécdota y el correo electrón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Comic Sans MS"/>
              </a:rPr>
              <a:t>La anécdota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Características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spontaneidad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surge de forma no premeditada, en el transcurso de una conversació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Brevedad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es fundamental centrarse en los hechos relevantes, con apenas descripciones.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xpresividad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predominan las funciones expresiva y apelativa, con llamadas de atención a nuestro interlocutor.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uceso curios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un hecho que se escape de lo comú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Orden cronológic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los acontecimientos siguen un orden line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Un hecho pasad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sucesos pasados con predominio del pretérito perfecto simp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Comic Sans MS"/>
              </a:rPr>
              <a:t>La anécdota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Estructura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68360" y="1844640"/>
          <a:ext cx="8291520" cy="4673520"/>
        </p:xfrm>
        <a:graphic>
          <a:graphicData uri="http://schemas.openxmlformats.org/drawingml/2006/table">
            <a:tbl>
              <a:tblPr/>
              <a:tblGrid>
                <a:gridCol w="3970440"/>
                <a:gridCol w="4321080"/>
              </a:tblGrid>
              <a:tr h="257472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8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68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NTEAMIENTO</a:t>
                      </a:r>
                      <a:r>
                        <a:rPr b="0" lang="es-E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Cuándo ocurrió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A quién le ocurrió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Dónde ocurrió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Cuál es la situación inicial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1758960"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68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50000"/>
                        </a:lnSpc>
                        <a:spcBef>
                          <a:spcPts val="168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DO</a:t>
                      </a:r>
                      <a:r>
                        <a:rPr b="0" lang="es-E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Qué sucedió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Qué ocurrió luego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1676520"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68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50000"/>
                        </a:lnSpc>
                        <a:spcBef>
                          <a:spcPts val="168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ENLACE 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En qué quedó todo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32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Qué consecuencias tuvo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El correo electrónico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Times New Roman"/>
              </a:rPr>
              <a:t>Características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 algn="just">
              <a:lnSpc>
                <a:spcPct val="100000"/>
              </a:lnSpc>
              <a:spcBef>
                <a:spcPts val="700"/>
              </a:spcBef>
              <a:spcAft>
                <a:spcPts val="168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700" spc="-1" strike="noStrike" u="sng">
                <a:solidFill>
                  <a:srgbClr val="ffffff"/>
                </a:solidFill>
                <a:uFillTx/>
                <a:latin typeface="Times New Roman"/>
              </a:rPr>
              <a:t>La rapidez de la comunicación</a:t>
            </a:r>
            <a:r>
              <a:rPr b="0" lang="es-ES" sz="2700" spc="-1" strike="noStrike">
                <a:solidFill>
                  <a:srgbClr val="ffffff"/>
                </a:solidFill>
                <a:latin typeface="Times New Roman"/>
              </a:rPr>
              <a:t>. Es una de las características esenciales de este tipo de comunicación: la persona a quien enviamos nuestro mensaje escrito lo recibe en su cuenta de correo de forma casi inmediata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100000"/>
              </a:lnSpc>
              <a:spcBef>
                <a:spcPts val="700"/>
              </a:spcBef>
              <a:spcAft>
                <a:spcPts val="168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700" spc="-1" strike="noStrike" u="sng">
                <a:solidFill>
                  <a:srgbClr val="ffffff"/>
                </a:solidFill>
                <a:uFillTx/>
                <a:latin typeface="Times New Roman"/>
              </a:rPr>
              <a:t>La prontitud de la respuesta de nuestro interlocutor</a:t>
            </a:r>
            <a:r>
              <a:rPr b="0" lang="es-ES" sz="2700" spc="-1" strike="noStrike">
                <a:solidFill>
                  <a:srgbClr val="ffffff"/>
                </a:solidFill>
                <a:latin typeface="Times New Roman"/>
              </a:rPr>
              <a:t>. Aunque, a veces, tengamos que esperar un pequeño margen de tiempo, no es como un correo postal que siempre va a suponer varios días de espera y va a depender de diversos factores, entre ellos la distancia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El correo electrónico 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Times New Roman"/>
              </a:rPr>
              <a:t>Estructura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600200"/>
          <a:ext cx="8258040" cy="5046840"/>
        </p:xfrm>
        <a:graphic>
          <a:graphicData uri="http://schemas.openxmlformats.org/drawingml/2006/table">
            <a:tbl>
              <a:tblPr/>
              <a:tblGrid>
                <a:gridCol w="3683160"/>
                <a:gridCol w="4574880"/>
              </a:tblGrid>
              <a:tr h="123840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UDO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85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Formal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enos días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enas tardes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nformal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 María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</a:t>
                      </a: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¡Hola!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142956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 DEL MENSAJE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856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s el saludo se inicia un nuevo párrafo, o varios, dependiendo de la extensión de lo que queremos contar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786240">
                <a:tc>
                  <a:txBody>
                    <a:bodyPr lIns="90000" rIns="90000" tIns="1047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ERRE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856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una o dos líneas se debe cerrar el texto que hemos elaborado.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15926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PEDIDA Y FIRMA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85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Formal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 cordial saludo,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</a:t>
                      </a: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oán Corredoir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nformal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 saludo, 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is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0T08:29:42Z</dcterms:created>
  <dc:creator>Guillermo</dc:creator>
  <dc:description/>
  <dc:language>en-US</dc:language>
  <cp:lastModifiedBy>Guillermo</cp:lastModifiedBy>
  <dcterms:modified xsi:type="dcterms:W3CDTF">2014-07-19T08:54:22Z</dcterms:modified>
  <cp:revision>12</cp:revision>
  <dc:subject/>
  <dc:title>EL TEXTO NARRATIVO</dc:title>
</cp:coreProperties>
</file>